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A3D-F0CC-4754-A60E-5091C693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94C-783B-4073-9E1A-4F31D8AA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00A-4577-4203-B63F-6109CB25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483-783D-4ABA-8D36-DE6DA685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637-B248-4975-A112-901A0FE1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D02-5E25-4DD0-B16F-2B0B0528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DA2-1B0A-4305-886B-68B05EE3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735-4394-4D36-AEBF-D24A831D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BC2-3A82-4EC7-821F-B2927773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C82-1A05-4E4A-854D-5C14E37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CDA-7C0F-44FD-A068-13C5BE64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E1F-1D18-4B4D-88C7-C2BBC143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0E4-311A-4030-BF0E-99EFE6F29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4:19:32Z</dcterms:created>
  <dc:creator>sshort</dc:creator>
  <dc:description/>
  <dc:language>en-US</dc:language>
  <cp:lastModifiedBy>sshort</cp:lastModifiedBy>
  <dcterms:modified xsi:type="dcterms:W3CDTF">2008-10-06T14:19:56Z</dcterms:modified>
  <cp:revision>1</cp:revision>
  <dc:subject/>
  <dc:title>Slide 1</dc:title>
</cp:coreProperties>
</file>